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568-CC51-4CBF-A888-EF0EC9D0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241-382E-4CBE-A25A-41390FD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534-8BC2-4701-ABF3-2F734290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264-3F5D-42F5-A10E-C29F9A0A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80C-9368-4E23-AC85-8AEC2B0D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807-7D20-4846-A150-BB6A68AE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3EE-D2BF-46B0-800F-561FC0BE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0A1-62A6-4DA4-8152-5981C6C8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EDF-430B-44A6-B026-D5347E03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430-891C-48CF-BCB1-054F6E9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D44-FA6D-4F43-8D37-34C3B990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F13-BD38-47A7-8406-F9E2041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3911-BA58-4B51-8ED0-4AA361C42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5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3280" y="361800"/>
            <a:ext cx="7736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ربّنا يا نوراً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ئناكَ وقلبُنا بالحبِّ مغم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اقبل منا حبَّنا واملأ قلبَنا بال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ما لنا حبٌ سو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نِّور عقلَنا حتى ن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القربانِ أعطنا يا ربُّ أن نلقَ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مُّنا يا مريمُ البكرُ ندع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ُنا يرنمُ نحنُ بن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كِ تنتقدمُ باركينا نرج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4:29Z</dcterms:modified>
  <cp:revision>3</cp:revision>
  <dc:subject/>
  <dc:title>PowerPoint Presentation</dc:title>
</cp:coreProperties>
</file>